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565-00EA-41B0-896F-74D2430C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26A-565D-4F02-AF0E-CEE308B3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8EC-8A9B-41DF-9D14-56B745B4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6A3-CE7B-4991-AD02-7AEF2D1C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F280-6709-4CC4-B176-1944154E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C25-991F-4F1E-B52C-F025F1B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1AEC-7D21-4488-8907-62CB4E3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522F-51E6-4298-B3B0-27BF4614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047-A5F0-4355-A7EC-7D527C60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E902-3F78-47FF-8364-ECBE725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7D65-F7BA-4E84-A7B9-FC95474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4D1-AFF6-41E9-A695-6EF2F4B9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0C68-1A57-4CBE-8FC0-F323C7E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40A-4616-4A88-85EA-FC4299AB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DCD-ED07-4E7F-AF0E-AE88809E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D105-9900-431E-9C54-68D8DF9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41DB-1ADC-4BC0-81AB-D8F55936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60B8-76AE-4BEF-929C-47944ABB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66FA-45B6-4B1C-A088-A193EB30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8F27-7363-46F7-B44E-80F2ED0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89A9-6BF1-47D8-AE48-1C999EA3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2955-E02B-45C9-BBBE-866EF820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947-F248-4659-A2AD-527C3A1D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39A3-8F6D-4771-B72B-4FFA8344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C932-DC5E-450F-BC8E-62173B2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1BC0-142A-42B2-B9BB-86ABE38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564E-BE15-4F8D-A775-B09F7EC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6E3F-E0B7-4004-B71D-128E9CD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05AF-9291-4FA3-9D05-C13006B1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AD0A-9EC0-4A81-918A-9C4823DC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FD0A-9566-40EF-92DD-11EEFF49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23C1-0C24-4FBB-BBCC-A83A3D5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B4CF-3D9A-45C2-A7F6-A78CDFA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989-A20F-4B04-9727-9B4B23B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C378-D70F-4B64-B036-2767D68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A5C5-3EB7-4F58-B351-B7FFB023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192F-62EF-4BC2-A70F-01D01D4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47F2-909F-48EA-9226-854913F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8715-E9C1-46ED-B8DC-807DA36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2066-AF57-4894-8154-72EDC333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7024-6F95-44A3-BF74-3C314867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A647-AC15-41AD-B1EB-E98406D7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39C7-9691-42C2-9285-91F5910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E80D-1C22-487E-A6C9-F4494290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B39-7BF8-4BF0-9970-B9776D4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2D66-C80C-44DD-80C0-83601CF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FFF2-03D6-460D-B94C-BFA52AF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8371-7BFE-4BF1-81CE-939BB1D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45FC-0D83-4A82-91BA-EC5F0DAC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2312-D1D5-43FC-9B3B-36A14277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5BAC-7141-448B-A11B-2B9B8A1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6C93-4541-4BFF-AFBB-6D701E7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B90F-8D39-4484-9259-5D80B74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BB1E-C2D9-4FE4-A6BE-4C8E633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498D-5EDE-464C-8806-0C420384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9F8-1D6B-4383-B7B3-6400DCF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A7C3-2CFB-4584-9476-02C11338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159F-727C-4EDD-A2F0-C762FBA7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F68C-6062-4152-BE6E-C2CD350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DDD6-3BB4-4985-888A-26B2E202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489D-A6FA-4ACC-8BF2-372252F8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2DB8-6ECC-459F-9F81-679846C7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75B0-56FA-4E3E-BCA2-E6302FC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B642-910A-421B-B4C4-814B4C4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753B-37E8-43FA-9D74-1B4A866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8DDD-412D-4742-B109-813B8B2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34E-0926-448C-90CA-BA14F0D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4CB4-222E-4AAD-B542-18C5392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02A4-3BC5-4E0F-8B18-B9BB4A0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A6E6-605A-447A-9F5D-447D08D9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BF60E-5FB5-435D-BFBE-6EE2D26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97B0-C18B-4270-BBE3-BD5F9E3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74D3-4EF1-453C-B598-F176E59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C836-8B02-41EC-8F9E-60C10DD7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A3EF-3003-4405-8C50-36AF98E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4483-E999-49A7-A8D1-A1BEF48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ADE79-4B51-4C75-88A6-C7EB4EC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7C2-22A2-4E29-A84E-BCB8685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1D87-5ADF-46E3-B672-5AE210B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1A137-85B6-4551-A78D-F6CFFB8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84A28-3DB0-4DAA-BBAB-2603202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7128C-1BC8-4778-A3F9-92FD30DE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A2FD-F5C4-41E4-BD0B-7B1FBACA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0BC7-82B0-4642-919E-79809B47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AB430-8DA5-4C18-B3D5-81B51DF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D414-4168-4434-8D38-1E54B858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D1A6-1B85-466C-A299-EEB3745F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0167-A8F0-402C-AB7B-19D07449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2E7-1811-4EE8-BCF4-DF22CF9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BEFB-2DF4-4C1F-AF2D-32D63B6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C326-FA1B-4B97-A553-35CC3CB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0E4B-1F0C-4D30-BF25-ACE9F17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F38BA-E8E6-442E-A443-B86E0AE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1365B-C822-4719-9BFC-89F00AD7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40E1B-D148-4B7C-8AF8-CF10AB16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5F17-EE0B-475A-8996-D232BBDD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A6D1-6277-4C6E-B799-FFC931813EB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4DC8-5492-49CD-8473-6D4E1997C37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E087-701C-4398-ADE1-7C4A35666DE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EDA-98D1-4617-AFAF-77832418C6D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FED-681E-460C-8959-AA90B6BC0B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31E-B4C5-4DFD-8703-B3EF695F12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4AE7-4013-4883-907F-56079ADBF3C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03C9-EB43-4936-9B3E-40118848237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4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3.3% of O’Gorman students scored a 4 or 5 while only 25.4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6.7% of O’Gorman students passed the test while 54.9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4719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5-03-06T19:29:20Z</dcterms:modified>
  <cp:revision>20</cp:revision>
  <dc:subject/>
  <dc:title>2011 AP English  Literature and Composition Results</dc:title>
</cp:coreProperties>
</file>